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D94-4557-4A47-8122-D1BA2328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DA8B-9E85-4173-BDB3-3EC8FF3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674-C74E-4FE5-BE5D-054BEB27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79B-6B41-4840-96B9-AEE6AEEB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A7C4-B92A-44E9-945D-479D3FE4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BBBF-244C-4D84-8799-A54E93EF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001E-FFD2-4E41-B1B8-987C2A2B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43E8-453D-4C40-87F1-7AE7E4D6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16F8-2BB2-4569-B2AC-0D1860A6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EA9D-E167-4832-9A8C-C9FE35CD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FE4A-C789-4CD4-91C4-4546103F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79DF-50CE-4335-8314-63943CCF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2A06-895D-49AE-A430-D725E0AB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6A37-F805-4BC3-986F-64A8A918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66BF-7722-4154-B085-86A07D75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E2E9-00D7-4CF5-B088-25369BAE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1670-1055-472B-BA24-768CA363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0088-19A8-41DB-9D8E-2939BDD7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4FE-F35B-4648-879E-17D2CBAE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95AE-6DE0-41E1-A638-824D32C4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F0A-DAC2-4B96-8B37-CE079B5C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639-719F-4444-B8AF-F79C51EF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F859-4F8A-423B-A019-F448B752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EB5-CB73-4AE6-A010-E5D178D7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DDA7-8013-4D4C-A403-45A7431E3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A482-BC18-42F0-A40D-C58D26DF0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ogle.ro/imgres?imgurl=http://voce.ro/wp-content/uploads/2009/03/love-for-life.jpg&amp;imgrefurl=http://blog.voce.ro/2009/03/25/love-for-life.html&amp;usg=__x315EII8CmZ6xsj0_1VvgD2WAgY=&amp;h=375&amp;w=500&amp;sz=62&amp;hl=ro&amp;start=34&amp;zoom=1&amp;itbs=1&amp;tbnid=AzyoY7HSATEavM:&amp;tbnh=98&amp;tbnw=130&amp;prev=/images%3Fq%3Dlove%26start%3D20%26hl%3Dro%26sa%3DN%26rlz%3D1R2ADRA_enRO391%26ndsp%3D20%26tbs%3Disch:1%26prmd%3Div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meo de la ta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de popul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meo si Juliet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m o cucereste Romeo pe Julie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81320" y="2762280"/>
            <a:ext cx="98136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ragedi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ce unii parinti nu accepta dragostea tineril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29718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e diferente pot indeparta oamenii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ul?Avutia?Rasa?Religia?Apartenenta politic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66680" y="2895480"/>
            <a:ext cx="2305080" cy="154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2744640"/>
            <a:ext cx="220968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Ce sentiment poate lega doi tineri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ect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at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et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gost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886200"/>
            <a:ext cx="27432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Dragostea implinita si neimplinita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at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art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ge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724280" y="3505320"/>
            <a:ext cx="3124440" cy="2300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914400" y="3571920"/>
            <a:ext cx="31240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9:34:01Z</dcterms:created>
  <dc:creator>Cursant15</dc:creator>
  <dc:description/>
  <dc:language>en-US</dc:language>
  <cp:lastModifiedBy>Cursant15</cp:lastModifiedBy>
  <dcterms:modified xsi:type="dcterms:W3CDTF">2010-08-25T11:39:05Z</dcterms:modified>
  <cp:revision>4</cp:revision>
  <dc:subject/>
  <dc:title>Romeo de la tara</dc:title>
</cp:coreProperties>
</file>